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22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794F7-3D81-4330-84EC-6B34393F06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F9509-FF1B-4A77-8A64-092656F0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5833B5-46E6-4544-9077-85339BF6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0DAA34-51C9-493F-9F73-7F0B5D94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110B15-6BEC-409B-92F3-81A4F1D9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7C20E2-E134-41D8-B0FB-1BE71966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AC480C-E844-45D6-A7F2-6A4449C4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5BC03E-E77C-4D2F-A01A-896AB713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F2BD69-04B5-4351-A07C-A25037B6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9E4BDB-FDA2-4A1C-AE56-A6DEAE46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BC6506-1C2A-478D-AF47-E49EF11F34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585E0-A1BA-4F88-9CDB-3A0D8FD97C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AD235-9C1D-40B7-9A42-77DB5B8F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1A538-7B22-4735-A184-40F433B2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D5927-8D44-4687-BB19-52E00494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9E2AD-6797-4E8D-AC7F-FE4C8273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DB053-A811-4186-9A7D-0349CF21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F34AB-7980-437A-89D8-79A6B75E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1A7A4-C9F5-4228-A76D-B51C8A61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EF64D-919C-4247-96D6-CCA7EBD5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AFBAA-FBDA-49FE-8726-5FAACC71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E54BA-4B73-45BA-B4D1-FCED4833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B09AB-3FFC-4316-B6E5-EFB6AAFE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0B304-E4FF-4833-B495-9AF2A55F33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EADE1-3729-4085-B2E8-BBF2A88BFC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C3EA16-D8AA-47B8-9424-97304BE15A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F4DF57-AB3D-45DC-A9EC-3C8420D9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BAD888-0A34-4F84-90AF-FA23E08F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6D117A-986C-4904-B8D9-F8790D01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25EB3A-9B8F-4A32-A03F-47B8B3C8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15404F-5F6A-4CCE-B121-9684BC9B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F7D313-2354-4A68-BE5D-8F6FB3A5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6FECCC-2485-43D0-BF2A-4E9A908C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2ED6AE-07CD-42AC-A933-EAE676F9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AA73A-37B5-4B14-95C5-08E6D862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320C61-C2B9-4DD1-9AFB-05B85801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DDAA8F-0838-43C6-B124-775A6BF4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5A43E4-70FB-48F7-967B-C97398F96E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AB7E3B-9955-470C-A55D-5954D57413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AF4539-4C08-4965-8F77-C6445416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418ECE-24B8-4F63-ADE9-76AFC5EF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442586-16EB-42DF-A0AB-45C610AA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DA3438-ADD8-4A83-A14F-D0E79A7F0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0F951A-6F32-46BC-A321-BEA766D9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07BA85-4E2A-4C82-B0CD-D2AA4BE5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114EA-CAF1-4AA3-A27E-839A4D32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46FF60-6C1D-4723-9220-40261659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9E1C97-36F5-4F4B-B930-28681380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90B701-F4A2-434F-A254-084AD7B1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9A5F7C-1CAF-4315-8692-CE9B4791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78B55D-0D62-499A-9CDF-137D3B1B59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1E313-802D-4C60-AE5C-ED365AABC7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1E95F-BF4B-48D3-8F68-A99B130C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04E1C-75F3-45AA-AB10-3F6910F4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7E3D2-C6BB-4A79-8066-8A0EC1C9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AEEF4-7C86-4151-BC6F-F519DBFB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399A5-EEF9-4B07-855A-5D2CCD41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3513E-F4C3-449C-8564-D4D1FF76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BE78B-B328-4251-B379-8636AE6D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1AA13-9578-471E-90C3-6D44BD32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4E021-F6B7-4DC8-B0CE-301A0656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EC949-F278-4E49-B6B4-258D0154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BEF9B-7970-4CFC-941C-93E1F7BD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999CB-97D9-4E13-AE8B-68995D7172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6814B-9958-4D92-8573-F4607ABB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62F1B-C894-4DD9-8718-EE2746E8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09843-27CB-43D3-80D1-76A61D6A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335D3-CE11-4B94-93B5-6ED466C4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59CA8-DF52-4917-8863-F7B30BB4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C3F73-E0A7-4D8E-9A84-19E349A1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B2EB3-A7D2-4508-A706-2E509574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B0D99-15D0-489B-940E-452A206A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A477B-FC82-47EC-9418-0240FD50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25436-B3E0-46F3-8334-9CB0DEF4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215BA-7FFE-480A-8FA4-191545A9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DCE67-CB5C-4C9B-9C7B-437FC614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A9805-2EAA-4078-9070-59AA8CBD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A936B-5F5A-4A7A-86E7-065AA0F8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7BBA1-DF95-413C-920F-C877B635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02485-800C-4A3F-BA6A-F5DB81B0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BA5EC-926B-4E71-AE34-8CEC3D73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59271-7800-402C-B538-4E62498F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6CF60-6463-4F48-85D3-061EB19E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A0138-89BC-41FA-8875-E1675A71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5C04A-7E3B-4898-98B0-E5D246ED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9EE1F-662F-46A6-A4BF-C28A3E84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E04D9-BEE5-4BC0-92DD-77982662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5ED18-C61B-4EC0-832B-489C7ACF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1A3E8-CFA9-4CC6-B4F0-7C18250A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A6167-DCCE-4653-B6C2-E8B8C47B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9DAA6-8C0D-404C-A3FC-0DA34BF0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1DB2A-911E-4999-A242-D69F7631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BC4C1-0473-4256-825B-7F255BDE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E7732-368F-4AC4-A354-8F9C3D26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A494A-D3BA-421E-9B77-4DA252DA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E6556-5A6E-4AC5-B1C2-A70EFD16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DCA3C-B3A6-4828-B6A8-C311C5F9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BC157-F1F5-4762-BA98-F7BE6FB9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67587-4D1C-4660-927A-FD9E9661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93316-0E09-4B12-AE67-3B136ACB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DAA3C-FEC3-44DA-AAC2-C8097ED1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2FE1C-49B5-41EA-88D1-41895678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B9A7B-D07C-406B-BFA2-85B4B4C5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91DB2-FA1B-45B1-A173-7744DA6C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0B21CD-4041-4050-824E-9C2A0AEF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5AFE04-3F34-4A07-A20D-32C15020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5B9EED-4CDB-4B57-8988-92E82A66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6FF4C6-E955-4536-9E4B-14D94801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6FC71C-7DF2-4F14-A19E-97F9E038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E7BF00-14CC-41E0-BE7D-4D55D22E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EF5BE5-8689-4AF5-B6DD-8CBF4A28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AF9FC-9B98-43A1-BA01-56A0CF12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27E15-B93F-4923-AB7D-F374B37B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0ED17E-8F1A-419E-BB25-43F9F759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C7F2FF-DCEB-473D-9FE0-15EE6513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4BAD53-AA0B-4651-871C-5F676AFE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04AD6A-CAEE-4954-84B4-F1531166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6252EF-82EF-4A0A-BE50-8DA69D39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67A02B-0645-4F0F-8A14-DA5855F7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585570-AD36-4F01-9FEA-445C77E5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9BF279-37E5-444C-843B-A56CCB2B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D801B6-312A-4A67-8CCC-480FBFF3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AB15C5-679B-485A-B661-55AF4A2D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A4454-96B7-48C4-93CD-8E3961C5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AD7B2C-6EA3-487A-AEF6-DC561ED9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CF5C87-CA45-4F1D-81A4-141924E6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9B215A-7625-4F09-BDBA-A6C8D56A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3BE427-860D-4E5D-B1D3-5762E6D0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097EEC-54B8-40C6-B96C-BDAFD072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D2C100-23D3-4005-86DB-DD45752C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DC8C7C-1D28-4C85-9E28-25A4A283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C7AAD8-F071-44C9-891B-955531BC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4AB426-D042-4BB4-8269-9678E596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532AEF-BDDD-4B25-A7DC-3B9228B6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7FF0D-F927-4277-B7BC-0DBE09AE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2A6329-3325-4819-82E5-DFCCC24B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7D7C16-14C9-45A9-919C-BBA77BF7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E97BF1-736A-4E90-A617-B99982F3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639837-7E80-4E25-843A-B45F20DE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CF748E-FDCA-4CC7-94E0-DC14004E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89B896-5FDC-45F1-BD69-BD7FF55B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B58CBD-043F-4A3B-9346-F726A143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DAF9FE-2D50-4C73-A100-62000152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9FB191-5FC2-4D76-9680-EAEFC955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FB5A00-EEC9-43CB-9A50-917A7378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48C37-F5FE-44B8-86E9-A821F681A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A81EC5-BA65-4AF1-916F-CB8672F9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D27B43-3424-4FA6-BDA1-D56C1D84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F0ED99-BAF7-4486-9D89-2FDDDC52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E3E2E6-1F35-4110-A194-3A090150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745CE3-A36B-4B08-9090-789F1920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EC8C5E-BA40-4DFF-898C-960EAD4E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EC694F-51B0-4000-AC5D-1A4236E4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ADD1D8-FEA1-4F7F-8318-A28EFFED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1D9B8B-54DC-4606-BA31-41AC5432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035AD1-3AB9-4BD5-9B2C-0C54DBA3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07E9F-B212-4D2E-A2A8-974AFCAD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13CF08-7F34-45F2-8B92-B1170D00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F11681-2383-4175-9FE4-7F6D6631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E682B5-5384-483B-AF54-E230B61B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3357C1-1EDE-4AAF-BA49-2132B646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AEF18E-0E28-47C1-8009-13B7F364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3BEA77-D8D6-4721-908B-75CD6760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5FC0BB-0BC6-4A77-B28A-C0166FBA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03AFAB-F2BB-47FC-A9C1-DAB7A757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06413B-73A1-4274-971A-0751FE6C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0464A9-350A-452E-97CF-DFFBF51C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364EB4-6AC0-407B-931D-10C12F969C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ECD1DE-79BB-46DC-A1F0-96B9F5F9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D89459-22E2-4AE5-ADB9-265A077E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2C023A-3F13-4153-9C57-CF95910B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2EFFB3-71E9-4CBC-9696-E45F44E7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99FBF7-8EC6-45B4-8618-A56B39B7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2E4D6F-6A2E-4DD9-9BB2-038B9632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C9F918-178B-4A7C-911E-E2A3D7E5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18822F-3BD9-48DF-9607-10D1B10D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25B16B-3965-4718-8EAE-F1C1CA66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6DBF36-899A-49C5-8E5D-E6EC7537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5CF45F-4438-4DC4-AAA5-B777709C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9CCEF5-6831-46D3-AA90-865595DD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C32258-B9D7-4435-A9A4-E4F94056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6272C1-3FF0-4E22-8BE5-45124A56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02EC0A-6229-4B89-8D06-2483713B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C7CBCB-8B4E-4B91-A4D0-C61ABC02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4455E3-8F62-44CF-9A10-B78F5030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C26612-C191-4326-8A08-BD0031EB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58462F-FF89-4F80-A66B-812E74B8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DAEB89-0AD6-4DF4-BCCF-0F4AD698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DCA5F8-A00F-4FFE-916E-BFF68A4E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F2B605-0BF8-4A51-85B6-671C7628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330A00-6BC6-43D2-B221-B60547BF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5D8C36-3148-4242-8D1B-7AAA3BC6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033670-F1CF-4C87-A18C-90A70ACA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24AFB0-C2AD-47E8-83FC-8287D394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960780-5475-4BED-AD8F-FD2B824D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94AAEC-0F11-4369-AF33-0DC258E8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CF015F-5F92-4881-AEA9-B1874864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DBEFB9-DADD-4962-BB4B-E780A772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8554EC-3D93-4CB6-9584-472B8853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2D71B8-9469-4496-9AC3-FBBC3A84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A01A4F-534C-478D-9B81-3B2C6DF8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638F9C-EF6D-468A-A86B-150522A1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C9B6AD-8005-4552-9D58-A2771370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FBD8D5-1952-43F3-8957-F94AF804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930536-A72D-41AD-811D-9BD09EE4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39FB1A-46A4-4FAE-B4DD-EF1F17AE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909FE0-CCFC-4430-ADBB-22FFA294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3175C2-3495-4F79-A84B-D5FFFA55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08D6F4-9699-4E3A-B0C2-0B3F0621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0724DF-B19F-4E9D-B475-1E9E07AA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071242-8EA3-4F0E-917A-449CB3F4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E5EE8-FA5B-47D0-9549-3BE403D2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BE5E2B-3B48-463B-B998-E0F06DC0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A4F759-0EE2-42F0-AD70-27D27117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6A7D7A-7509-472C-B5C4-D8E9D54F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9CD4BF-178C-49DF-979B-51667A6C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E46E3C-BC18-488A-A60C-63409993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E2FF25-41E5-4224-9F1C-D42BBC53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4EE21A-3A2F-4ECF-921C-079F1246B5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1EEE2-80C7-453A-9409-8FB0C8D45D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65E4A-B8BE-45BC-B75D-22055427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4FD79-52F5-4CAA-9BFC-B000B883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6D2A6-3D13-4470-AD9A-813C384F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BB73B-70DC-421C-AEDC-94E8A6B9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3E03E-A21B-4380-ACE0-B0CE5F32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71469-C128-446F-AE3F-21945F40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8EBAF-7F9E-4D95-9BDD-FD938B4A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F9270-3649-4B6C-AB52-14A10194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017DD-72CD-45EF-8904-EC4B7661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6F922-56E6-4240-B3B2-C7FA4008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ECF52-2827-4E50-BC4E-3A1A7461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EA054-2D02-4A97-93C7-B32B4E50F3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F93DC9-C418-467F-865D-55982A75EF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7B0AA-695B-4211-B2FA-A181338A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C9FCFE-5452-4600-8076-71EEF2D8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69B1D4-64FA-43CD-A269-6742F503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816F14-35AD-4A47-BD12-17558364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FF2A67-F6B3-457B-9D47-0227EBF7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DCAEDA-5B39-4D88-8F07-351719BF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C1B5B4-C881-4F87-A954-C24656C0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38546B-54B7-40E3-8C52-64F1A31C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33DCD7-D30A-4D4E-815E-F60DF216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17F9C6-7CF7-4BDB-87EE-CA8DF1AE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DEF788-17EE-4971-B61C-2C7F886D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B195C-F206-4241-AEFE-13B78901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9ACB3F-CBB3-4C0D-B688-F11BCB3603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E54538-7266-479F-8865-93020018B8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0C59CD-6080-4180-8CB3-A103EFBE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A93056-4051-449D-9384-C5B161E1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D6BAB6-3571-449F-AA96-770A6D5E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AA121E-9F1A-46CB-9713-784B2442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DFB02F-8A4C-44CE-99F7-4CB0D7B3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3A9F56-6B0F-4C16-931E-FF4D4760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731609-CF3B-46E6-B823-713A45CF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1652DC-61CE-4138-A305-FAFA6222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A94A9-C39F-4E21-AAA9-86A9A00F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C137E2-6226-48B5-8249-68128592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6AF80E-00EF-4D6A-8F21-5D90CDEA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F19906-C676-4E6B-9E93-41D39CEF18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F0D8A-1CC7-4381-9CD6-8D54E92A43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96ECD-636C-4F27-B77E-7BDA4F1B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90EFF-FB7C-4D4E-88E2-C18D62AA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62225-E023-46D0-9DF2-AD992FAF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7EDBD-4741-424A-A9F7-EFAB2E2D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11332-BA80-4235-98D8-FE8D1253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3A3C2-BD9F-4FBE-AB4B-7D03B6E3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DA6F7-DABC-4BE4-A4A5-9C21B085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66516-E60B-451B-B3C7-B45D1DB1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389E1-F3B8-463F-91AA-7BD14F15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6C38E-F466-4B95-9C88-82CF8A2C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7B8D9-EB4B-449C-98B2-B6BED771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622E5-B858-4238-BF62-C4846D88CB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298F44-E8E3-4154-A655-ED32B7AB1D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A34318-B832-409A-B729-46AC42B8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7E41B5-8F5C-42F8-B3C5-48716C4A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8AB45D-1B51-4162-B098-0F11336E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B8C9E3-A8EE-441A-99C5-656F0E9F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C3836-A1F6-4ABA-B5C0-50D90F17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39931D-D573-480C-8A53-D098CC3C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6423B5-03CA-411E-9673-316EF08C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D290D3-0868-43B6-800F-58E60295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184A5B-4CA6-4D4D-8ADC-1200FC87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361D44-38B1-48CB-9EF8-676914D9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38CA7F-64AF-434F-8373-0F7917E9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192A97-6484-4FEF-A5AD-2B6E647B71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C67F54-C6F7-4A90-B00D-7DB5F9CD60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3002CD-8F97-4CDA-9D01-DA6586E8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74FC74-F3E6-4A4C-9E7F-E41A686D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1BBB-40D6-4827-80F4-FDC45FBD015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8C03-929A-4463-AED5-C8AECB0CFD4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E25F-A8BB-460D-9DC2-6E706398A5D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16B4-5A6F-4819-BFF3-3B7BB4DA352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2918-41F5-432E-AE1F-9B0F44B5470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BE6B-B6C8-416A-9A78-ABC05020469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F454-71A6-474E-BA81-630A683C416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C9D7-2477-422E-870C-0E6B76C1D0A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3349-B44D-41B9-9C17-9A1C1CD5C28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22B9-58ED-4FCF-AC37-38DB858BC57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55D8-8FF2-4E8D-AC9D-AB994B8D235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ED11-2E92-4402-A179-786D8BA1E1F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1145-9E24-4C34-A47A-C6F044FB19F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B0DB-3023-4460-88C3-8C9266B56DF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28E6-C474-4D4B-894D-F32BE9B5B4E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CCD1-0DE1-413D-B92C-9F158BA8D50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9D43-3775-4338-8589-22F9D38E53F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1714-C778-4171-B1D7-F09332C919A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5F78-833F-4A7C-9893-74F8A7FC401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F12C-2D23-451E-BFDE-3DAE46ABE20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6993-F7BC-4F35-9C22-D746C863050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AD53-4945-48DE-8CDE-0F146BBA31C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5DD0-61DF-4012-A357-0B47E0C7978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E549-947E-43B4-83BC-05E2B3ED24F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4475160" cy="360"/>
            <a:chOff x="2284560" y="2448000"/>
            <a:chExt cx="447516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447516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4475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9"/>
          <p:cNvSpPr/>
          <p:nvPr/>
        </p:nvSpPr>
        <p:spPr>
          <a:xfrm>
            <a:off x="-1163520" y="1744560"/>
            <a:ext cx="88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位数乘一位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5"/>
          <p:cNvSpPr/>
          <p:nvPr/>
        </p:nvSpPr>
        <p:spPr>
          <a:xfrm>
            <a:off x="3400560" y="2716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6"/>
          <p:cNvSpPr/>
          <p:nvPr/>
        </p:nvSpPr>
        <p:spPr>
          <a:xfrm>
            <a:off x="2860560" y="2666880"/>
            <a:ext cx="450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练 习 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文本框 2"/>
          <p:cNvSpPr/>
          <p:nvPr/>
        </p:nvSpPr>
        <p:spPr>
          <a:xfrm>
            <a:off x="285840" y="893880"/>
            <a:ext cx="45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文本框 3"/>
          <p:cNvSpPr/>
          <p:nvPr/>
        </p:nvSpPr>
        <p:spPr>
          <a:xfrm>
            <a:off x="849240" y="893880"/>
            <a:ext cx="4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矩形 4"/>
          <p:cNvSpPr/>
          <p:nvPr/>
        </p:nvSpPr>
        <p:spPr>
          <a:xfrm>
            <a:off x="1398600" y="973080"/>
            <a:ext cx="360360" cy="36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文本框 6"/>
          <p:cNvSpPr/>
          <p:nvPr/>
        </p:nvSpPr>
        <p:spPr>
          <a:xfrm>
            <a:off x="1893960" y="893880"/>
            <a:ext cx="34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里填上合适的数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7" name="组合 25"/>
          <p:cNvGrpSpPr/>
          <p:nvPr/>
        </p:nvGrpSpPr>
        <p:grpSpPr>
          <a:xfrm>
            <a:off x="1116000" y="1876320"/>
            <a:ext cx="1830240" cy="2578320"/>
            <a:chOff x="1116000" y="1876320"/>
            <a:chExt cx="1830240" cy="2578320"/>
          </a:xfrm>
        </p:grpSpPr>
        <p:sp>
          <p:nvSpPr>
            <p:cNvPr id="1248" name="矩形 8"/>
            <p:cNvSpPr/>
            <p:nvPr/>
          </p:nvSpPr>
          <p:spPr>
            <a:xfrm>
              <a:off x="1706400" y="1876320"/>
              <a:ext cx="360000" cy="360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矩形 9"/>
            <p:cNvSpPr/>
            <p:nvPr/>
          </p:nvSpPr>
          <p:spPr>
            <a:xfrm>
              <a:off x="2462400" y="1876320"/>
              <a:ext cx="360000" cy="360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文本框 13"/>
            <p:cNvSpPr/>
            <p:nvPr/>
          </p:nvSpPr>
          <p:spPr>
            <a:xfrm>
              <a:off x="1116000" y="2532240"/>
              <a:ext cx="4989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×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文本框 14"/>
            <p:cNvSpPr/>
            <p:nvPr/>
          </p:nvSpPr>
          <p:spPr>
            <a:xfrm>
              <a:off x="2462400" y="253224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直接连接符 16"/>
            <p:cNvSpPr/>
            <p:nvPr/>
          </p:nvSpPr>
          <p:spPr>
            <a:xfrm>
              <a:off x="1198440" y="3121920"/>
              <a:ext cx="1747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文本框 17"/>
            <p:cNvSpPr/>
            <p:nvPr/>
          </p:nvSpPr>
          <p:spPr>
            <a:xfrm>
              <a:off x="1198440" y="3383640"/>
              <a:ext cx="48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文本框 18"/>
            <p:cNvSpPr/>
            <p:nvPr/>
          </p:nvSpPr>
          <p:spPr>
            <a:xfrm>
              <a:off x="1706400" y="338364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矩形 19"/>
            <p:cNvSpPr/>
            <p:nvPr/>
          </p:nvSpPr>
          <p:spPr>
            <a:xfrm>
              <a:off x="2462400" y="3462480"/>
              <a:ext cx="360000" cy="360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6" name="组合 26"/>
          <p:cNvGrpSpPr/>
          <p:nvPr/>
        </p:nvGrpSpPr>
        <p:grpSpPr>
          <a:xfrm>
            <a:off x="5545080" y="1798560"/>
            <a:ext cx="2017800" cy="2724120"/>
            <a:chOff x="5545080" y="1798560"/>
            <a:chExt cx="2017800" cy="2724120"/>
          </a:xfrm>
        </p:grpSpPr>
        <p:sp>
          <p:nvSpPr>
            <p:cNvPr id="1257" name="矩形 10"/>
            <p:cNvSpPr/>
            <p:nvPr/>
          </p:nvSpPr>
          <p:spPr>
            <a:xfrm>
              <a:off x="5959080" y="1877040"/>
              <a:ext cx="360000" cy="359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矩形 11"/>
            <p:cNvSpPr/>
            <p:nvPr/>
          </p:nvSpPr>
          <p:spPr>
            <a:xfrm>
              <a:off x="7009560" y="1877760"/>
              <a:ext cx="360000" cy="359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文本框 12"/>
            <p:cNvSpPr/>
            <p:nvPr/>
          </p:nvSpPr>
          <p:spPr>
            <a:xfrm>
              <a:off x="6525720" y="179856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直接连接符 15"/>
            <p:cNvSpPr/>
            <p:nvPr/>
          </p:nvSpPr>
          <p:spPr>
            <a:xfrm>
              <a:off x="5621040" y="3122280"/>
              <a:ext cx="1748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文本框 20"/>
            <p:cNvSpPr/>
            <p:nvPr/>
          </p:nvSpPr>
          <p:spPr>
            <a:xfrm>
              <a:off x="5545080" y="2600280"/>
              <a:ext cx="4989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×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文本框 21"/>
            <p:cNvSpPr/>
            <p:nvPr/>
          </p:nvSpPr>
          <p:spPr>
            <a:xfrm>
              <a:off x="7009560" y="253296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矩形 22"/>
            <p:cNvSpPr/>
            <p:nvPr/>
          </p:nvSpPr>
          <p:spPr>
            <a:xfrm>
              <a:off x="5959080" y="3462480"/>
              <a:ext cx="360000" cy="360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矩形 23"/>
            <p:cNvSpPr/>
            <p:nvPr/>
          </p:nvSpPr>
          <p:spPr>
            <a:xfrm>
              <a:off x="6588000" y="3462480"/>
              <a:ext cx="360000" cy="360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文本框 24"/>
            <p:cNvSpPr/>
            <p:nvPr/>
          </p:nvSpPr>
          <p:spPr>
            <a:xfrm>
              <a:off x="7079040" y="3384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文本框 27"/>
          <p:cNvSpPr/>
          <p:nvPr/>
        </p:nvSpPr>
        <p:spPr>
          <a:xfrm>
            <a:off x="1758960" y="182880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文本框 35"/>
          <p:cNvSpPr/>
          <p:nvPr/>
        </p:nvSpPr>
        <p:spPr>
          <a:xfrm>
            <a:off x="2433600" y="1828800"/>
            <a:ext cx="4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文本框 36"/>
          <p:cNvSpPr/>
          <p:nvPr/>
        </p:nvSpPr>
        <p:spPr>
          <a:xfrm>
            <a:off x="2495520" y="3414600"/>
            <a:ext cx="4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文本框 37"/>
          <p:cNvSpPr/>
          <p:nvPr/>
        </p:nvSpPr>
        <p:spPr>
          <a:xfrm>
            <a:off x="5959440" y="1878120"/>
            <a:ext cx="4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文本框 38"/>
          <p:cNvSpPr/>
          <p:nvPr/>
        </p:nvSpPr>
        <p:spPr>
          <a:xfrm>
            <a:off x="7010280" y="1859040"/>
            <a:ext cx="4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文本框 39"/>
          <p:cNvSpPr/>
          <p:nvPr/>
        </p:nvSpPr>
        <p:spPr>
          <a:xfrm>
            <a:off x="5931000" y="3384720"/>
            <a:ext cx="4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文本框 40"/>
          <p:cNvSpPr/>
          <p:nvPr/>
        </p:nvSpPr>
        <p:spPr>
          <a:xfrm>
            <a:off x="6593040" y="3444840"/>
            <a:ext cx="4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74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5" name="组合 6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76" name="椭圆 12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7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椭圆 14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9" name="椭圆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0" name="圆角矩形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1" name="圆角矩形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2" name="圆角矩形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3" name="圆角矩形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84" name="文本框 1"/>
          <p:cNvSpPr/>
          <p:nvPr/>
        </p:nvSpPr>
        <p:spPr>
          <a:xfrm>
            <a:off x="5829480" y="4121280"/>
            <a:ext cx="25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答案不唯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4"/>
          <p:cNvSpPr/>
          <p:nvPr/>
        </p:nvSpPr>
        <p:spPr>
          <a:xfrm>
            <a:off x="1669680" y="779400"/>
            <a:ext cx="520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栋楼房共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单元，每单元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户。一共可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少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Box 19"/>
          <p:cNvSpPr/>
          <p:nvPr/>
        </p:nvSpPr>
        <p:spPr>
          <a:xfrm>
            <a:off x="2036880" y="2131920"/>
            <a:ext cx="3071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8×6=108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户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答：一共可住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08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户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Picture 2" descr="D:\我的文档-桌面-收藏夹\桌面\157858PIC.jpg"/>
          <p:cNvPicPr/>
          <p:nvPr/>
        </p:nvPicPr>
        <p:blipFill>
          <a:blip r:embed="rId1"/>
          <a:stretch/>
        </p:blipFill>
        <p:spPr>
          <a:xfrm>
            <a:off x="6512040" y="2131920"/>
            <a:ext cx="1695240" cy="1290600"/>
          </a:xfrm>
          <a:prstGeom prst="rect">
            <a:avLst/>
          </a:prstGeom>
          <a:ln w="0">
            <a:noFill/>
          </a:ln>
        </p:spPr>
      </p:pic>
      <p:grpSp>
        <p:nvGrpSpPr>
          <p:cNvPr id="100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02" name="圆角矩形 3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3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04" name="椭圆 6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5" name="椭圆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6" name="椭圆 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7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9" name="圆角矩形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0" name="圆角矩形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1" name="圆角矩形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Picture 6" descr="D:\我的文档-桌面-收藏夹\桌面\乒乓球.jpg"/>
          <p:cNvPicPr/>
          <p:nvPr/>
        </p:nvPicPr>
        <p:blipFill>
          <a:blip r:embed="rId1"/>
          <a:stretch/>
        </p:blipFill>
        <p:spPr>
          <a:xfrm>
            <a:off x="747720" y="1057320"/>
            <a:ext cx="1592280" cy="1428840"/>
          </a:xfrm>
          <a:prstGeom prst="rect">
            <a:avLst/>
          </a:prstGeom>
          <a:ln w="0">
            <a:noFill/>
          </a:ln>
        </p:spPr>
      </p:pic>
      <p:sp>
        <p:nvSpPr>
          <p:cNvPr id="1013" name="矩形 20"/>
          <p:cNvSpPr/>
          <p:nvPr/>
        </p:nvSpPr>
        <p:spPr>
          <a:xfrm>
            <a:off x="214200" y="13539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元  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元  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元   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元    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8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买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台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， 一共多少钱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你还能提出其他数学问题并解答吗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Picture 3" descr="D:\我的文档-桌面-收藏夹\桌面\中国象棋.jpg"/>
          <p:cNvPicPr/>
          <p:nvPr/>
        </p:nvPicPr>
        <p:blipFill>
          <a:blip r:embed="rId2"/>
          <a:stretch/>
        </p:blipFill>
        <p:spPr>
          <a:xfrm>
            <a:off x="5429160" y="1231920"/>
            <a:ext cx="908280" cy="9079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4" descr="D:\我的文档-桌面-收藏夹\桌面\玩具汽车.jpg"/>
          <p:cNvPicPr/>
          <p:nvPr/>
        </p:nvPicPr>
        <p:blipFill>
          <a:blip r:embed="rId3"/>
          <a:stretch/>
        </p:blipFill>
        <p:spPr>
          <a:xfrm>
            <a:off x="3608280" y="1211400"/>
            <a:ext cx="1357560" cy="90792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5" descr="D:\我的文档-桌面-收藏夹\桌面\闹钟.jpg"/>
          <p:cNvPicPr/>
          <p:nvPr/>
        </p:nvPicPr>
        <p:blipFill>
          <a:blip r:embed="rId4"/>
          <a:stretch/>
        </p:blipFill>
        <p:spPr>
          <a:xfrm>
            <a:off x="2340000" y="1165320"/>
            <a:ext cx="1106640" cy="10000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7" descr="D:\我的文档-桌面-收藏夹\桌面\电风扇.jpg"/>
          <p:cNvPicPr/>
          <p:nvPr/>
        </p:nvPicPr>
        <p:blipFill>
          <a:blip r:embed="rId5"/>
          <a:stretch/>
        </p:blipFill>
        <p:spPr>
          <a:xfrm>
            <a:off x="6929280" y="9428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7" descr="D:\我的文档-桌面-收藏夹\桌面\电风扇.jpg"/>
          <p:cNvPicPr/>
          <p:nvPr/>
        </p:nvPicPr>
        <p:blipFill>
          <a:blip r:embed="rId6"/>
          <a:stretch/>
        </p:blipFill>
        <p:spPr>
          <a:xfrm>
            <a:off x="1857240" y="235440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019" name="TextBox 25"/>
          <p:cNvSpPr/>
          <p:nvPr/>
        </p:nvSpPr>
        <p:spPr>
          <a:xfrm>
            <a:off x="1357200" y="2997360"/>
            <a:ext cx="307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×78=546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元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答：一共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46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元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组合 28"/>
          <p:cNvGrpSpPr/>
          <p:nvPr/>
        </p:nvGrpSpPr>
        <p:grpSpPr>
          <a:xfrm>
            <a:off x="1357200" y="4410000"/>
            <a:ext cx="4857840" cy="1236600"/>
            <a:chOff x="1357200" y="4410000"/>
            <a:chExt cx="4857840" cy="1236600"/>
          </a:xfrm>
        </p:grpSpPr>
        <p:pic>
          <p:nvPicPr>
            <p:cNvPr id="1021" name="Picture 4" descr="D:\我的文档-桌面-收藏夹\桌面\玩具汽车.jpg"/>
            <p:cNvPicPr/>
            <p:nvPr/>
          </p:nvPicPr>
          <p:blipFill>
            <a:blip r:embed="rId7"/>
            <a:stretch/>
          </p:blipFill>
          <p:spPr>
            <a:xfrm>
              <a:off x="2224440" y="4410000"/>
              <a:ext cx="785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2" name="TextBox 26"/>
            <p:cNvSpPr/>
            <p:nvPr/>
          </p:nvSpPr>
          <p:spPr>
            <a:xfrm>
              <a:off x="1357200" y="4410000"/>
              <a:ext cx="485784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买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6</a:t>
              </a: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个     ，一共多少钱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6×6=216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（</a:t>
              </a: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元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答：一共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216</a:t>
              </a: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元。（答案不唯一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24" name="圆角矩形 5" descr=""/>
            <p:cNvPicPr/>
            <p:nvPr/>
          </p:nvPicPr>
          <p:blipFill>
            <a:blip r:embed="rId8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5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26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7" name="椭圆 7" descr=""/>
              <p:cNvPicPr/>
              <p:nvPr/>
            </p:nvPicPr>
            <p:blipFill>
              <a:blip r:embed="rId9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8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9" name="椭圆 30" descr=""/>
              <p:cNvPicPr/>
              <p:nvPr/>
            </p:nvPicPr>
            <p:blipFill>
              <a:blip r:embed="rId10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0" name="圆角矩形 31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1" name="圆角矩形 3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2" name="圆角矩形 33" descr=""/>
              <p:cNvPicPr/>
              <p:nvPr/>
            </p:nvPicPr>
            <p:blipFill>
              <a:blip r:embed="rId13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3" name="圆角矩形 34" descr=""/>
              <p:cNvPicPr/>
              <p:nvPr/>
            </p:nvPicPr>
            <p:blipFill>
              <a:blip r:embed="rId14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34" name="文本框 2"/>
          <p:cNvSpPr/>
          <p:nvPr/>
        </p:nvSpPr>
        <p:spPr>
          <a:xfrm>
            <a:off x="115920" y="94284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圆角矩形 14"/>
          <p:cNvSpPr/>
          <p:nvPr/>
        </p:nvSpPr>
        <p:spPr>
          <a:xfrm>
            <a:off x="5286240" y="930240"/>
            <a:ext cx="1285920" cy="2143080"/>
          </a:xfrm>
          <a:custGeom>
            <a:avLst/>
            <a:gdLst>
              <a:gd name="textAreaLeft" fmla="*/ 62640 w 1285920"/>
              <a:gd name="textAreaRight" fmla="*/ 1223280 w 1285920"/>
              <a:gd name="textAreaTop" fmla="*/ 62640 h 2143080"/>
              <a:gd name="textAreaBottom" fmla="*/ 2080440 h 2143080"/>
            </a:gdLst>
            <a:ahLst/>
            <a:rect l="textAreaLeft" t="textAreaTop" r="textAreaRight" b="textAreaBottom"/>
            <a:pathLst>
              <a:path w="21600" h="35994">
                <a:moveTo>
                  <a:pt x="3600" y="0"/>
                </a:moveTo>
                <a:arcTo wR="3600" hR="3600" stAng="16200000" swAng="-5400000"/>
                <a:lnTo>
                  <a:pt x="0" y="32394"/>
                </a:lnTo>
                <a:arcTo wR="3600" hR="3600" stAng="10800000" swAng="-5400000"/>
                <a:lnTo>
                  <a:pt x="18000" y="359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2"/>
          <p:cNvSpPr/>
          <p:nvPr/>
        </p:nvSpPr>
        <p:spPr>
          <a:xfrm>
            <a:off x="505440" y="7160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圆角矩形 3"/>
          <p:cNvSpPr/>
          <p:nvPr/>
        </p:nvSpPr>
        <p:spPr>
          <a:xfrm>
            <a:off x="2857680" y="930240"/>
            <a:ext cx="1000080" cy="2143080"/>
          </a:xfrm>
          <a:custGeom>
            <a:avLst/>
            <a:gdLst>
              <a:gd name="textAreaLeft" fmla="*/ 48600 w 1000080"/>
              <a:gd name="textAreaRight" fmla="*/ 951480 w 1000080"/>
              <a:gd name="textAreaTop" fmla="*/ 48600 h 2143080"/>
              <a:gd name="textAreaBottom" fmla="*/ 2094480 h 2143080"/>
            </a:gdLst>
            <a:ahLst/>
            <a:rect l="textAreaLeft" t="textAreaTop" r="textAreaRight" b="textAreaBottom"/>
            <a:pathLst>
              <a:path w="21600" h="46278">
                <a:moveTo>
                  <a:pt x="3600" y="0"/>
                </a:moveTo>
                <a:arcTo wR="3600" hR="3600" stAng="16200000" swAng="-5400000"/>
                <a:lnTo>
                  <a:pt x="0" y="42678"/>
                </a:lnTo>
                <a:arcTo wR="3600" hR="3600" stAng="10800000" swAng="-5400000"/>
                <a:lnTo>
                  <a:pt x="18000" y="462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3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4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25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组合 12"/>
          <p:cNvGrpSpPr/>
          <p:nvPr/>
        </p:nvGrpSpPr>
        <p:grpSpPr>
          <a:xfrm>
            <a:off x="3714480" y="1287360"/>
            <a:ext cx="1786320" cy="1430640"/>
            <a:chOff x="3714480" y="1287360"/>
            <a:chExt cx="1786320" cy="1430640"/>
          </a:xfrm>
        </p:grpSpPr>
        <p:cxnSp>
          <p:nvCxnSpPr>
            <p:cNvPr id="1039" name="直接箭头连接符 5"/>
            <p:cNvCxnSpPr/>
            <p:nvPr/>
          </p:nvCxnSpPr>
          <p:spPr>
            <a:xfrm>
              <a:off x="3714480" y="1287360"/>
              <a:ext cx="17866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040" name="直接箭头连接符 7"/>
            <p:cNvCxnSpPr/>
            <p:nvPr/>
          </p:nvCxnSpPr>
          <p:spPr>
            <a:xfrm>
              <a:off x="3714480" y="2000160"/>
              <a:ext cx="17866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041" name="直接箭头连接符 8"/>
            <p:cNvCxnSpPr/>
            <p:nvPr/>
          </p:nvCxnSpPr>
          <p:spPr>
            <a:xfrm>
              <a:off x="3714480" y="2716200"/>
              <a:ext cx="17866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arrow" w="med"/>
            </a:ln>
          </p:spPr>
        </p:cxnSp>
      </p:grpSp>
      <p:sp>
        <p:nvSpPr>
          <p:cNvPr id="1042" name="TextBox 13"/>
          <p:cNvSpPr/>
          <p:nvPr/>
        </p:nvSpPr>
        <p:spPr>
          <a:xfrm>
            <a:off x="4214880" y="716040"/>
            <a:ext cx="785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×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15"/>
          <p:cNvSpPr/>
          <p:nvPr/>
        </p:nvSpPr>
        <p:spPr>
          <a:xfrm>
            <a:off x="5500800" y="1073160"/>
            <a:ext cx="92844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16"/>
          <p:cNvSpPr/>
          <p:nvPr/>
        </p:nvSpPr>
        <p:spPr>
          <a:xfrm>
            <a:off x="5500800" y="1859040"/>
            <a:ext cx="92844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17"/>
          <p:cNvSpPr/>
          <p:nvPr/>
        </p:nvSpPr>
        <p:spPr>
          <a:xfrm>
            <a:off x="5500800" y="2502000"/>
            <a:ext cx="92844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Box 18"/>
          <p:cNvSpPr/>
          <p:nvPr/>
        </p:nvSpPr>
        <p:spPr>
          <a:xfrm>
            <a:off x="5643720" y="1073160"/>
            <a:ext cx="714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3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Box 19"/>
          <p:cNvSpPr/>
          <p:nvPr/>
        </p:nvSpPr>
        <p:spPr>
          <a:xfrm>
            <a:off x="5643720" y="1859040"/>
            <a:ext cx="714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14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Box 20"/>
          <p:cNvSpPr/>
          <p:nvPr/>
        </p:nvSpPr>
        <p:spPr>
          <a:xfrm>
            <a:off x="5500800" y="2502000"/>
            <a:ext cx="857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32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圆角矩形 21"/>
          <p:cNvSpPr/>
          <p:nvPr/>
        </p:nvSpPr>
        <p:spPr>
          <a:xfrm>
            <a:off x="5286240" y="3571920"/>
            <a:ext cx="1285920" cy="2143080"/>
          </a:xfrm>
          <a:custGeom>
            <a:avLst/>
            <a:gdLst>
              <a:gd name="textAreaLeft" fmla="*/ 62640 w 1285920"/>
              <a:gd name="textAreaRight" fmla="*/ 1223280 w 1285920"/>
              <a:gd name="textAreaTop" fmla="*/ 62640 h 2143080"/>
              <a:gd name="textAreaBottom" fmla="*/ 2080440 h 2143080"/>
            </a:gdLst>
            <a:ahLst/>
            <a:rect l="textAreaLeft" t="textAreaTop" r="textAreaRight" b="textAreaBottom"/>
            <a:pathLst>
              <a:path w="21600" h="35994">
                <a:moveTo>
                  <a:pt x="3600" y="0"/>
                </a:moveTo>
                <a:arcTo wR="3600" hR="3600" stAng="16200000" swAng="-5400000"/>
                <a:lnTo>
                  <a:pt x="0" y="32394"/>
                </a:lnTo>
                <a:arcTo wR="3600" hR="3600" stAng="10800000" swAng="-5400000"/>
                <a:lnTo>
                  <a:pt x="18000" y="359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圆角矩形 22"/>
          <p:cNvSpPr/>
          <p:nvPr/>
        </p:nvSpPr>
        <p:spPr>
          <a:xfrm>
            <a:off x="2857680" y="3571920"/>
            <a:ext cx="1000080" cy="2143080"/>
          </a:xfrm>
          <a:custGeom>
            <a:avLst/>
            <a:gdLst>
              <a:gd name="textAreaLeft" fmla="*/ 48600 w 1000080"/>
              <a:gd name="textAreaRight" fmla="*/ 951480 w 1000080"/>
              <a:gd name="textAreaTop" fmla="*/ 48600 h 2143080"/>
              <a:gd name="textAreaBottom" fmla="*/ 2094480 h 2143080"/>
            </a:gdLst>
            <a:ahLst/>
            <a:rect l="textAreaLeft" t="textAreaTop" r="textAreaRight" b="textAreaBottom"/>
            <a:pathLst>
              <a:path w="21600" h="46278">
                <a:moveTo>
                  <a:pt x="3600" y="0"/>
                </a:moveTo>
                <a:arcTo wR="3600" hR="3600" stAng="16200000" swAng="-5400000"/>
                <a:lnTo>
                  <a:pt x="0" y="42678"/>
                </a:lnTo>
                <a:arcTo wR="3600" hR="3600" stAng="10800000" swAng="-5400000"/>
                <a:lnTo>
                  <a:pt x="18000" y="462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6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37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组合 23"/>
          <p:cNvGrpSpPr/>
          <p:nvPr/>
        </p:nvGrpSpPr>
        <p:grpSpPr>
          <a:xfrm>
            <a:off x="3714480" y="3929040"/>
            <a:ext cx="1786320" cy="1430640"/>
            <a:chOff x="3714480" y="3929040"/>
            <a:chExt cx="1786320" cy="1430640"/>
          </a:xfrm>
        </p:grpSpPr>
        <p:cxnSp>
          <p:nvCxnSpPr>
            <p:cNvPr id="1052" name="直接箭头连接符 24"/>
            <p:cNvCxnSpPr/>
            <p:nvPr/>
          </p:nvCxnSpPr>
          <p:spPr>
            <a:xfrm>
              <a:off x="3714480" y="3929040"/>
              <a:ext cx="17866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053" name="直接箭头连接符 25"/>
            <p:cNvCxnSpPr/>
            <p:nvPr/>
          </p:nvCxnSpPr>
          <p:spPr>
            <a:xfrm>
              <a:off x="3714480" y="4641840"/>
              <a:ext cx="17866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054" name="直接箭头连接符 26"/>
            <p:cNvCxnSpPr/>
            <p:nvPr/>
          </p:nvCxnSpPr>
          <p:spPr>
            <a:xfrm>
              <a:off x="3714480" y="5357880"/>
              <a:ext cx="17866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arrow" w="med"/>
            </a:ln>
          </p:spPr>
        </p:cxnSp>
      </p:grpSp>
      <p:sp>
        <p:nvSpPr>
          <p:cNvPr id="1055" name="TextBox 27"/>
          <p:cNvSpPr/>
          <p:nvPr/>
        </p:nvSpPr>
        <p:spPr>
          <a:xfrm>
            <a:off x="4214880" y="3357720"/>
            <a:ext cx="785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×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28"/>
          <p:cNvSpPr/>
          <p:nvPr/>
        </p:nvSpPr>
        <p:spPr>
          <a:xfrm>
            <a:off x="5500800" y="3714840"/>
            <a:ext cx="92844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29"/>
          <p:cNvSpPr/>
          <p:nvPr/>
        </p:nvSpPr>
        <p:spPr>
          <a:xfrm>
            <a:off x="5500800" y="4500720"/>
            <a:ext cx="92844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30"/>
          <p:cNvSpPr/>
          <p:nvPr/>
        </p:nvSpPr>
        <p:spPr>
          <a:xfrm>
            <a:off x="5500800" y="5143680"/>
            <a:ext cx="92844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Box 31"/>
          <p:cNvSpPr/>
          <p:nvPr/>
        </p:nvSpPr>
        <p:spPr>
          <a:xfrm>
            <a:off x="5643720" y="3714840"/>
            <a:ext cx="714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44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Box 32"/>
          <p:cNvSpPr/>
          <p:nvPr/>
        </p:nvSpPr>
        <p:spPr>
          <a:xfrm>
            <a:off x="5643720" y="4500720"/>
            <a:ext cx="714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0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Box 33"/>
          <p:cNvSpPr/>
          <p:nvPr/>
        </p:nvSpPr>
        <p:spPr>
          <a:xfrm>
            <a:off x="5500800" y="5143680"/>
            <a:ext cx="857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23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63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4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65" name="椭圆 6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椭圆 8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椭圆 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8" name="椭圆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9" name="圆角矩形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0" name="圆角矩形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1" name="圆角矩形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2" name="圆角矩形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文本框 2"/>
          <p:cNvSpPr/>
          <p:nvPr/>
        </p:nvSpPr>
        <p:spPr>
          <a:xfrm>
            <a:off x="466560" y="882720"/>
            <a:ext cx="57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竖式计算下面各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19"/>
          <p:cNvSpPr/>
          <p:nvPr/>
        </p:nvSpPr>
        <p:spPr>
          <a:xfrm>
            <a:off x="628560" y="1584360"/>
            <a:ext cx="142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3×4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Box 19"/>
          <p:cNvSpPr/>
          <p:nvPr/>
        </p:nvSpPr>
        <p:spPr>
          <a:xfrm>
            <a:off x="3141720" y="1584360"/>
            <a:ext cx="142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×9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Box 19"/>
          <p:cNvSpPr/>
          <p:nvPr/>
        </p:nvSpPr>
        <p:spPr>
          <a:xfrm>
            <a:off x="5740560" y="1584360"/>
            <a:ext cx="1420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2×3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Box 19"/>
          <p:cNvSpPr/>
          <p:nvPr/>
        </p:nvSpPr>
        <p:spPr>
          <a:xfrm>
            <a:off x="692280" y="3819600"/>
            <a:ext cx="142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3×3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Box 19"/>
          <p:cNvSpPr/>
          <p:nvPr/>
        </p:nvSpPr>
        <p:spPr>
          <a:xfrm>
            <a:off x="3141720" y="3819600"/>
            <a:ext cx="142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16×2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19"/>
          <p:cNvSpPr/>
          <p:nvPr/>
        </p:nvSpPr>
        <p:spPr>
          <a:xfrm>
            <a:off x="5835600" y="3819600"/>
            <a:ext cx="142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34×5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组合 24"/>
          <p:cNvGrpSpPr/>
          <p:nvPr/>
        </p:nvGrpSpPr>
        <p:grpSpPr>
          <a:xfrm>
            <a:off x="279360" y="2057400"/>
            <a:ext cx="2435400" cy="1850040"/>
            <a:chOff x="279360" y="2057400"/>
            <a:chExt cx="2435400" cy="1850040"/>
          </a:xfrm>
        </p:grpSpPr>
        <p:sp>
          <p:nvSpPr>
            <p:cNvPr id="1081" name="文本框 11"/>
            <p:cNvSpPr/>
            <p:nvPr/>
          </p:nvSpPr>
          <p:spPr>
            <a:xfrm>
              <a:off x="279360" y="2057400"/>
              <a:ext cx="243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6    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  </a:t>
              </a: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×         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直接连接符 12"/>
            <p:cNvSpPr/>
            <p:nvPr/>
          </p:nvSpPr>
          <p:spPr>
            <a:xfrm>
              <a:off x="466560" y="2938680"/>
              <a:ext cx="1747440" cy="0"/>
            </a:xfrm>
            <a:prstGeom prst="line">
              <a:avLst/>
            </a:prstGeom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文本框 13"/>
            <p:cNvSpPr/>
            <p:nvPr/>
          </p:nvSpPr>
          <p:spPr>
            <a:xfrm>
              <a:off x="552240" y="3021120"/>
              <a:ext cx="15750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2  5    2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4" name="文本框 15"/>
          <p:cNvSpPr/>
          <p:nvPr/>
        </p:nvSpPr>
        <p:spPr>
          <a:xfrm>
            <a:off x="1839960" y="15843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2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组合 26"/>
          <p:cNvGrpSpPr/>
          <p:nvPr/>
        </p:nvGrpSpPr>
        <p:grpSpPr>
          <a:xfrm>
            <a:off x="2633760" y="2057400"/>
            <a:ext cx="2436840" cy="1850040"/>
            <a:chOff x="2633760" y="2057400"/>
            <a:chExt cx="2436840" cy="1850040"/>
          </a:xfrm>
        </p:grpSpPr>
        <p:sp>
          <p:nvSpPr>
            <p:cNvPr id="1086" name="文本框 14"/>
            <p:cNvSpPr/>
            <p:nvPr/>
          </p:nvSpPr>
          <p:spPr>
            <a:xfrm>
              <a:off x="2633760" y="2057400"/>
              <a:ext cx="2436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2    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  </a:t>
              </a: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×         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直接连接符 16"/>
            <p:cNvSpPr/>
            <p:nvPr/>
          </p:nvSpPr>
          <p:spPr>
            <a:xfrm>
              <a:off x="2814480" y="2873520"/>
              <a:ext cx="1747800" cy="0"/>
            </a:xfrm>
            <a:prstGeom prst="line">
              <a:avLst/>
            </a:prstGeom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文本框 17"/>
            <p:cNvSpPr/>
            <p:nvPr/>
          </p:nvSpPr>
          <p:spPr>
            <a:xfrm>
              <a:off x="2988000" y="3021120"/>
              <a:ext cx="15750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2  3    4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组合 27"/>
          <p:cNvGrpSpPr/>
          <p:nvPr/>
        </p:nvGrpSpPr>
        <p:grpSpPr>
          <a:xfrm>
            <a:off x="5445000" y="2057400"/>
            <a:ext cx="2435400" cy="1484280"/>
            <a:chOff x="5445000" y="2057400"/>
            <a:chExt cx="2435400" cy="1484280"/>
          </a:xfrm>
        </p:grpSpPr>
        <p:sp>
          <p:nvSpPr>
            <p:cNvPr id="1090" name="文本框 18"/>
            <p:cNvSpPr/>
            <p:nvPr/>
          </p:nvSpPr>
          <p:spPr>
            <a:xfrm>
              <a:off x="5445000" y="2057400"/>
              <a:ext cx="243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</a:t>
              </a:r>
              <a:r>
                <a:rPr b="0" lang="en-US" sz="1800" spc="-1" strike="noStrike">
                  <a:solidFill>
                    <a:srgbClr val="c00000"/>
                  </a:solidFill>
                  <a:latin typeface="Calibri"/>
                </a:rPr>
                <a:t>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1   3   2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  </a:t>
              </a: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×         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直接连接符 19"/>
            <p:cNvSpPr/>
            <p:nvPr/>
          </p:nvSpPr>
          <p:spPr>
            <a:xfrm>
              <a:off x="5673600" y="2873520"/>
              <a:ext cx="1747440" cy="0"/>
            </a:xfrm>
            <a:prstGeom prst="line">
              <a:avLst/>
            </a:prstGeom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文本框 20"/>
            <p:cNvSpPr/>
            <p:nvPr/>
          </p:nvSpPr>
          <p:spPr>
            <a:xfrm>
              <a:off x="5874840" y="3021120"/>
              <a:ext cx="15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3  9   6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文本框 22"/>
          <p:cNvSpPr/>
          <p:nvPr/>
        </p:nvSpPr>
        <p:spPr>
          <a:xfrm>
            <a:off x="4287960" y="158436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文本框 23"/>
          <p:cNvSpPr/>
          <p:nvPr/>
        </p:nvSpPr>
        <p:spPr>
          <a:xfrm>
            <a:off x="7161120" y="14875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3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5" name="组合 23"/>
          <p:cNvGrpSpPr/>
          <p:nvPr/>
        </p:nvGrpSpPr>
        <p:grpSpPr>
          <a:xfrm>
            <a:off x="425520" y="4292640"/>
            <a:ext cx="2436840" cy="1692720"/>
            <a:chOff x="425520" y="4292640"/>
            <a:chExt cx="2436840" cy="1692720"/>
          </a:xfrm>
        </p:grpSpPr>
        <p:sp>
          <p:nvSpPr>
            <p:cNvPr id="1096" name="文本框 24"/>
            <p:cNvSpPr/>
            <p:nvPr/>
          </p:nvSpPr>
          <p:spPr>
            <a:xfrm>
              <a:off x="425520" y="4292640"/>
              <a:ext cx="2436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2   7   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  </a:t>
              </a: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×          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直接连接符 25"/>
            <p:cNvSpPr/>
            <p:nvPr/>
          </p:nvSpPr>
          <p:spPr>
            <a:xfrm>
              <a:off x="691920" y="5099040"/>
              <a:ext cx="1749600" cy="0"/>
            </a:xfrm>
            <a:prstGeom prst="line">
              <a:avLst/>
            </a:prstGeom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文本框 26"/>
            <p:cNvSpPr/>
            <p:nvPr/>
          </p:nvSpPr>
          <p:spPr>
            <a:xfrm>
              <a:off x="779040" y="5099040"/>
              <a:ext cx="15750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8  1    9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组合 35"/>
          <p:cNvGrpSpPr/>
          <p:nvPr/>
        </p:nvGrpSpPr>
        <p:grpSpPr>
          <a:xfrm>
            <a:off x="2714760" y="4218120"/>
            <a:ext cx="2436840" cy="1766880"/>
            <a:chOff x="2714760" y="4218120"/>
            <a:chExt cx="2436840" cy="1766880"/>
          </a:xfrm>
        </p:grpSpPr>
        <p:sp>
          <p:nvSpPr>
            <p:cNvPr id="1100" name="文本框 27"/>
            <p:cNvSpPr/>
            <p:nvPr/>
          </p:nvSpPr>
          <p:spPr>
            <a:xfrm>
              <a:off x="2714760" y="4218120"/>
              <a:ext cx="2436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</a:t>
              </a:r>
              <a:r>
                <a:rPr b="0" lang="en-US" sz="18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6   1  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  </a:t>
              </a: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×         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直接连接符 28"/>
            <p:cNvSpPr/>
            <p:nvPr/>
          </p:nvSpPr>
          <p:spPr>
            <a:xfrm>
              <a:off x="2987640" y="5099400"/>
              <a:ext cx="1749600" cy="0"/>
            </a:xfrm>
            <a:prstGeom prst="line">
              <a:avLst/>
            </a:prstGeom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文本框 35"/>
            <p:cNvSpPr/>
            <p:nvPr/>
          </p:nvSpPr>
          <p:spPr>
            <a:xfrm>
              <a:off x="2987640" y="5159520"/>
              <a:ext cx="157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1  2   3   2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3" name="组合 36"/>
          <p:cNvGrpSpPr/>
          <p:nvPr/>
        </p:nvGrpSpPr>
        <p:grpSpPr>
          <a:xfrm>
            <a:off x="5232240" y="4218120"/>
            <a:ext cx="2436840" cy="1841400"/>
            <a:chOff x="5232240" y="4218120"/>
            <a:chExt cx="2436840" cy="1841400"/>
          </a:xfrm>
        </p:grpSpPr>
        <p:sp>
          <p:nvSpPr>
            <p:cNvPr id="1104" name="文本框 36"/>
            <p:cNvSpPr/>
            <p:nvPr/>
          </p:nvSpPr>
          <p:spPr>
            <a:xfrm>
              <a:off x="5232240" y="4218120"/>
              <a:ext cx="2436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8   3  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  </a:t>
              </a: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×          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直接连接符 37"/>
            <p:cNvSpPr/>
            <p:nvPr/>
          </p:nvSpPr>
          <p:spPr>
            <a:xfrm>
              <a:off x="5509440" y="5099400"/>
              <a:ext cx="1747800" cy="0"/>
            </a:xfrm>
            <a:prstGeom prst="line">
              <a:avLst/>
            </a:prstGeom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文本框 38"/>
            <p:cNvSpPr/>
            <p:nvPr/>
          </p:nvSpPr>
          <p:spPr>
            <a:xfrm>
              <a:off x="5597280" y="5234040"/>
              <a:ext cx="157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4  1   7   0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文本框 39"/>
          <p:cNvSpPr/>
          <p:nvPr/>
        </p:nvSpPr>
        <p:spPr>
          <a:xfrm>
            <a:off x="2009880" y="38196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8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文本框 40"/>
          <p:cNvSpPr/>
          <p:nvPr/>
        </p:nvSpPr>
        <p:spPr>
          <a:xfrm>
            <a:off x="4527720" y="3819600"/>
            <a:ext cx="12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12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文本框 41"/>
          <p:cNvSpPr/>
          <p:nvPr/>
        </p:nvSpPr>
        <p:spPr>
          <a:xfrm>
            <a:off x="7161120" y="3760920"/>
            <a:ext cx="10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41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11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2" name="组合 11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13" name="椭圆 13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4" name="椭圆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5" name="椭圆 15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6" name="椭圆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7" name="圆角矩形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8" name="圆角矩形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9" name="圆角矩形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0" name="圆角矩形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文本框 2"/>
          <p:cNvSpPr/>
          <p:nvPr/>
        </p:nvSpPr>
        <p:spPr>
          <a:xfrm>
            <a:off x="507960" y="905040"/>
            <a:ext cx="38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我是投篮小冠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2" name="图片 3" descr="T44E@)XHWD_85IZLSXHQ{Y2"/>
          <p:cNvPicPr/>
          <p:nvPr/>
        </p:nvPicPr>
        <p:blipFill>
          <a:blip r:embed="rId1"/>
          <a:stretch/>
        </p:blipFill>
        <p:spPr>
          <a:xfrm>
            <a:off x="425520" y="1566720"/>
            <a:ext cx="2073240" cy="2071800"/>
          </a:xfrm>
          <a:prstGeom prst="rect">
            <a:avLst/>
          </a:prstGeom>
          <a:ln w="0">
            <a:noFill/>
          </a:ln>
        </p:spPr>
      </p:pic>
      <p:pic>
        <p:nvPicPr>
          <p:cNvPr id="1123" name="图片 4" descr="0CD@5{L{XHU(7O3@O88AO1S"/>
          <p:cNvPicPr/>
          <p:nvPr/>
        </p:nvPicPr>
        <p:blipFill>
          <a:blip r:embed="rId2"/>
          <a:stretch/>
        </p:blipFill>
        <p:spPr>
          <a:xfrm flipH="1">
            <a:off x="507960" y="4629240"/>
            <a:ext cx="1803600" cy="1377720"/>
          </a:xfrm>
          <a:prstGeom prst="rect">
            <a:avLst/>
          </a:prstGeom>
          <a:ln w="0">
            <a:noFill/>
          </a:ln>
        </p:spPr>
      </p:pic>
      <p:pic>
        <p:nvPicPr>
          <p:cNvPr id="1124" name="图片 6" descr="T44E@)XHWD_85IZLSXHQ{Y2"/>
          <p:cNvPicPr/>
          <p:nvPr/>
        </p:nvPicPr>
        <p:blipFill>
          <a:blip r:embed="rId3"/>
          <a:stretch/>
        </p:blipFill>
        <p:spPr>
          <a:xfrm>
            <a:off x="2664000" y="1566720"/>
            <a:ext cx="2073240" cy="2071800"/>
          </a:xfrm>
          <a:prstGeom prst="rect">
            <a:avLst/>
          </a:prstGeom>
          <a:ln w="0">
            <a:noFill/>
          </a:ln>
        </p:spPr>
      </p:pic>
      <p:pic>
        <p:nvPicPr>
          <p:cNvPr id="1125" name="图片 8" descr="T44E@)XHWD_85IZLSXHQ{Y2"/>
          <p:cNvPicPr/>
          <p:nvPr/>
        </p:nvPicPr>
        <p:blipFill>
          <a:blip r:embed="rId4"/>
          <a:stretch/>
        </p:blipFill>
        <p:spPr>
          <a:xfrm>
            <a:off x="4902120" y="1566720"/>
            <a:ext cx="2073240" cy="2071800"/>
          </a:xfrm>
          <a:prstGeom prst="rect">
            <a:avLst/>
          </a:prstGeom>
          <a:ln w="0">
            <a:noFill/>
          </a:ln>
        </p:spPr>
      </p:pic>
      <p:pic>
        <p:nvPicPr>
          <p:cNvPr id="1126" name="图片 9" descr="T44E@)XHWD_85IZLSXHQ{Y2"/>
          <p:cNvPicPr/>
          <p:nvPr/>
        </p:nvPicPr>
        <p:blipFill>
          <a:blip r:embed="rId5"/>
          <a:stretch/>
        </p:blipFill>
        <p:spPr>
          <a:xfrm>
            <a:off x="6975360" y="1566720"/>
            <a:ext cx="2073240" cy="2071800"/>
          </a:xfrm>
          <a:prstGeom prst="rect">
            <a:avLst/>
          </a:prstGeom>
          <a:ln w="0">
            <a:noFill/>
          </a:ln>
        </p:spPr>
      </p:pic>
      <p:pic>
        <p:nvPicPr>
          <p:cNvPr id="1127" name="图片 10" descr="0CD@5{L{XHU(7O3@O88AO1S"/>
          <p:cNvPicPr/>
          <p:nvPr/>
        </p:nvPicPr>
        <p:blipFill>
          <a:blip r:embed="rId6"/>
          <a:stretch/>
        </p:blipFill>
        <p:spPr>
          <a:xfrm flipH="1">
            <a:off x="2935080" y="4714920"/>
            <a:ext cx="1801800" cy="1378080"/>
          </a:xfrm>
          <a:prstGeom prst="rect">
            <a:avLst/>
          </a:prstGeom>
          <a:ln w="0">
            <a:noFill/>
          </a:ln>
        </p:spPr>
      </p:pic>
      <p:pic>
        <p:nvPicPr>
          <p:cNvPr id="1128" name="图片 11" descr="0CD@5{L{XHU(7O3@O88AO1S"/>
          <p:cNvPicPr/>
          <p:nvPr/>
        </p:nvPicPr>
        <p:blipFill>
          <a:blip r:embed="rId7"/>
          <a:stretch/>
        </p:blipFill>
        <p:spPr>
          <a:xfrm flipH="1">
            <a:off x="5038200" y="4714920"/>
            <a:ext cx="1801800" cy="1378080"/>
          </a:xfrm>
          <a:prstGeom prst="rect">
            <a:avLst/>
          </a:prstGeom>
          <a:ln w="0">
            <a:noFill/>
          </a:ln>
        </p:spPr>
      </p:pic>
      <p:pic>
        <p:nvPicPr>
          <p:cNvPr id="1129" name="图片 12" descr="0CD@5{L{XHU(7O3@O88AO1S"/>
          <p:cNvPicPr/>
          <p:nvPr/>
        </p:nvPicPr>
        <p:blipFill>
          <a:blip r:embed="rId8"/>
          <a:stretch/>
        </p:blipFill>
        <p:spPr>
          <a:xfrm flipH="1">
            <a:off x="7110000" y="4629240"/>
            <a:ext cx="1801800" cy="1377720"/>
          </a:xfrm>
          <a:prstGeom prst="rect">
            <a:avLst/>
          </a:prstGeom>
          <a:ln w="0">
            <a:noFill/>
          </a:ln>
        </p:spPr>
      </p:pic>
      <p:sp>
        <p:nvSpPr>
          <p:cNvPr id="1130" name="文本框 13"/>
          <p:cNvSpPr/>
          <p:nvPr/>
        </p:nvSpPr>
        <p:spPr>
          <a:xfrm>
            <a:off x="831240" y="18003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1×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文本框 14"/>
          <p:cNvSpPr/>
          <p:nvPr/>
        </p:nvSpPr>
        <p:spPr>
          <a:xfrm>
            <a:off x="3130920" y="18003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6×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文本框 15"/>
          <p:cNvSpPr/>
          <p:nvPr/>
        </p:nvSpPr>
        <p:spPr>
          <a:xfrm>
            <a:off x="5332320" y="180036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37×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文本框 16"/>
          <p:cNvSpPr/>
          <p:nvPr/>
        </p:nvSpPr>
        <p:spPr>
          <a:xfrm>
            <a:off x="7422120" y="180036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24×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椭圆 17"/>
          <p:cNvSpPr/>
          <p:nvPr/>
        </p:nvSpPr>
        <p:spPr>
          <a:xfrm>
            <a:off x="1763640" y="5373720"/>
            <a:ext cx="576360" cy="503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椭圆 18"/>
          <p:cNvSpPr/>
          <p:nvPr/>
        </p:nvSpPr>
        <p:spPr>
          <a:xfrm>
            <a:off x="4160880" y="5373720"/>
            <a:ext cx="576360" cy="503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椭圆 19"/>
          <p:cNvSpPr/>
          <p:nvPr/>
        </p:nvSpPr>
        <p:spPr>
          <a:xfrm>
            <a:off x="6264360" y="5373720"/>
            <a:ext cx="576000" cy="503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椭圆 20"/>
          <p:cNvSpPr/>
          <p:nvPr/>
        </p:nvSpPr>
        <p:spPr>
          <a:xfrm>
            <a:off x="8337600" y="5286240"/>
            <a:ext cx="574560" cy="505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文本框 21"/>
          <p:cNvSpPr/>
          <p:nvPr/>
        </p:nvSpPr>
        <p:spPr>
          <a:xfrm>
            <a:off x="1695600" y="544212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文本框 22"/>
          <p:cNvSpPr/>
          <p:nvPr/>
        </p:nvSpPr>
        <p:spPr>
          <a:xfrm>
            <a:off x="4130640" y="5425920"/>
            <a:ext cx="8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文本框 23"/>
          <p:cNvSpPr/>
          <p:nvPr/>
        </p:nvSpPr>
        <p:spPr>
          <a:xfrm>
            <a:off x="6264360" y="544212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文本框 24"/>
          <p:cNvSpPr/>
          <p:nvPr/>
        </p:nvSpPr>
        <p:spPr>
          <a:xfrm>
            <a:off x="8410680" y="5373720"/>
            <a:ext cx="8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直接连接符 25"/>
          <p:cNvSpPr/>
          <p:nvPr/>
        </p:nvSpPr>
        <p:spPr>
          <a:xfrm>
            <a:off x="1693800" y="3641760"/>
            <a:ext cx="3886200" cy="10825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直接连接符 26"/>
          <p:cNvSpPr/>
          <p:nvPr/>
        </p:nvSpPr>
        <p:spPr>
          <a:xfrm>
            <a:off x="3929040" y="3481560"/>
            <a:ext cx="3522600" cy="109980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直接连接符 27"/>
          <p:cNvSpPr/>
          <p:nvPr/>
        </p:nvSpPr>
        <p:spPr>
          <a:xfrm flipH="1">
            <a:off x="1979640" y="3662280"/>
            <a:ext cx="3728880" cy="106380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直接连接符 28"/>
          <p:cNvSpPr/>
          <p:nvPr/>
        </p:nvSpPr>
        <p:spPr>
          <a:xfrm flipH="1">
            <a:off x="4356000" y="3759120"/>
            <a:ext cx="3300480" cy="118116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47" name="圆角矩形 3" descr=""/>
            <p:cNvPicPr/>
            <p:nvPr/>
          </p:nvPicPr>
          <p:blipFill>
            <a:blip r:embed="rId9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8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49" name="椭圆 6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0" name="椭圆 8" descr=""/>
              <p:cNvPicPr/>
              <p:nvPr/>
            </p:nvPicPr>
            <p:blipFill>
              <a:blip r:embed="rId10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1" name="椭圆 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2" name="椭圆 1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3" name="圆角矩形 11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4" name="圆角矩形 12" descr=""/>
              <p:cNvPicPr/>
              <p:nvPr/>
            </p:nvPicPr>
            <p:blipFill>
              <a:blip r:embed="rId13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5" name="圆角矩形 13" descr=""/>
              <p:cNvPicPr/>
              <p:nvPr/>
            </p:nvPicPr>
            <p:blipFill>
              <a:blip r:embed="rId14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6" name="圆角矩形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文本框 2"/>
          <p:cNvSpPr/>
          <p:nvPr/>
        </p:nvSpPr>
        <p:spPr>
          <a:xfrm>
            <a:off x="550800" y="925560"/>
            <a:ext cx="83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面竖式正确吗？把不正确的改正过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文本框 3"/>
          <p:cNvSpPr/>
          <p:nvPr/>
        </p:nvSpPr>
        <p:spPr>
          <a:xfrm>
            <a:off x="808200" y="1562040"/>
            <a:ext cx="243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2 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×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文本框 4"/>
          <p:cNvSpPr/>
          <p:nvPr/>
        </p:nvSpPr>
        <p:spPr>
          <a:xfrm>
            <a:off x="3502080" y="1562040"/>
            <a:ext cx="243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  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×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文本框 6"/>
          <p:cNvSpPr/>
          <p:nvPr/>
        </p:nvSpPr>
        <p:spPr>
          <a:xfrm>
            <a:off x="6453360" y="1562040"/>
            <a:ext cx="243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 9  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×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直接连接符 8"/>
          <p:cNvSpPr/>
          <p:nvPr/>
        </p:nvSpPr>
        <p:spPr>
          <a:xfrm>
            <a:off x="1046160" y="2552760"/>
            <a:ext cx="17478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直接连接符 9"/>
          <p:cNvSpPr/>
          <p:nvPr/>
        </p:nvSpPr>
        <p:spPr>
          <a:xfrm>
            <a:off x="3699000" y="2552760"/>
            <a:ext cx="17478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直接连接符 10"/>
          <p:cNvSpPr/>
          <p:nvPr/>
        </p:nvSpPr>
        <p:spPr>
          <a:xfrm>
            <a:off x="6918480" y="2552760"/>
            <a:ext cx="17478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文本框 11"/>
          <p:cNvSpPr/>
          <p:nvPr/>
        </p:nvSpPr>
        <p:spPr>
          <a:xfrm>
            <a:off x="2266920" y="218448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文本框 12"/>
          <p:cNvSpPr/>
          <p:nvPr/>
        </p:nvSpPr>
        <p:spPr>
          <a:xfrm>
            <a:off x="1498680" y="2641680"/>
            <a:ext cx="14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  6 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文本框 13"/>
          <p:cNvSpPr/>
          <p:nvPr/>
        </p:nvSpPr>
        <p:spPr>
          <a:xfrm>
            <a:off x="4097160" y="2641680"/>
            <a:ext cx="15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    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文本框 14"/>
          <p:cNvSpPr/>
          <p:nvPr/>
        </p:nvSpPr>
        <p:spPr>
          <a:xfrm>
            <a:off x="6730920" y="2641680"/>
            <a:ext cx="24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4   5  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8" name="组合 22"/>
          <p:cNvGrpSpPr/>
          <p:nvPr/>
        </p:nvGrpSpPr>
        <p:grpSpPr>
          <a:xfrm>
            <a:off x="223920" y="3278160"/>
            <a:ext cx="3084480" cy="1584000"/>
            <a:chOff x="223920" y="3278160"/>
            <a:chExt cx="3084480" cy="1584000"/>
          </a:xfrm>
        </p:grpSpPr>
        <p:sp>
          <p:nvSpPr>
            <p:cNvPr id="1169" name="直接连接符 19"/>
            <p:cNvSpPr/>
            <p:nvPr/>
          </p:nvSpPr>
          <p:spPr>
            <a:xfrm>
              <a:off x="1153800" y="4219560"/>
              <a:ext cx="1748160" cy="0"/>
            </a:xfrm>
            <a:prstGeom prst="line">
              <a:avLst/>
            </a:prstGeom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0" name="组合 2"/>
            <p:cNvGrpSpPr/>
            <p:nvPr/>
          </p:nvGrpSpPr>
          <p:grpSpPr>
            <a:xfrm>
              <a:off x="223920" y="3278160"/>
              <a:ext cx="3084480" cy="1373760"/>
              <a:chOff x="223920" y="3278160"/>
              <a:chExt cx="3084480" cy="1373760"/>
            </a:xfrm>
          </p:grpSpPr>
          <p:sp>
            <p:nvSpPr>
              <p:cNvPr id="1171" name="文本框 15"/>
              <p:cNvSpPr/>
              <p:nvPr/>
            </p:nvSpPr>
            <p:spPr>
              <a:xfrm>
                <a:off x="223920" y="3397320"/>
                <a:ext cx="458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00000"/>
                    </a:solidFill>
                    <a:latin typeface="Calibri"/>
                    <a:ea typeface="宋体"/>
                  </a:rPr>
                  <a:t>改正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文本框 18"/>
              <p:cNvSpPr/>
              <p:nvPr/>
            </p:nvSpPr>
            <p:spPr>
              <a:xfrm>
                <a:off x="871560" y="3278160"/>
                <a:ext cx="243684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             </a:t>
                </a:r>
                <a:r>
                  <a:rPr b="0" lang="en-US" sz="2800" spc="-1" strike="noStrike">
                    <a:solidFill>
                      <a:srgbClr val="c00000"/>
                    </a:solidFill>
                    <a:latin typeface="Arial"/>
                  </a:rPr>
                  <a:t>1   2   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00000"/>
                    </a:solidFill>
                    <a:latin typeface="Arial"/>
                    <a:ea typeface="宋体"/>
                  </a:rPr>
                  <a:t>  </a:t>
                </a:r>
                <a:r>
                  <a:rPr b="0" lang="zh-CN" sz="2800" spc="-1" strike="noStrike">
                    <a:solidFill>
                      <a:srgbClr val="c00000"/>
                    </a:solidFill>
                    <a:latin typeface="Arial"/>
                    <a:ea typeface="宋体"/>
                  </a:rPr>
                  <a:t>×           </a:t>
                </a:r>
                <a:r>
                  <a:rPr b="0" lang="en-US" sz="2800" spc="-1" strike="noStrike">
                    <a:solidFill>
                      <a:srgbClr val="c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文本框 20"/>
              <p:cNvSpPr/>
              <p:nvPr/>
            </p:nvSpPr>
            <p:spPr>
              <a:xfrm>
                <a:off x="2340720" y="3865680"/>
                <a:ext cx="45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4" name="文本框 21"/>
            <p:cNvSpPr/>
            <p:nvPr/>
          </p:nvSpPr>
          <p:spPr>
            <a:xfrm>
              <a:off x="1572840" y="4341600"/>
              <a:ext cx="14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Arial"/>
                </a:rPr>
                <a:t>3   7  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5" name="组合 3"/>
          <p:cNvGrpSpPr/>
          <p:nvPr/>
        </p:nvGrpSpPr>
        <p:grpSpPr>
          <a:xfrm>
            <a:off x="3429000" y="3362400"/>
            <a:ext cx="3024360" cy="1499760"/>
            <a:chOff x="3429000" y="3362400"/>
            <a:chExt cx="3024360" cy="1499760"/>
          </a:xfrm>
        </p:grpSpPr>
        <p:sp>
          <p:nvSpPr>
            <p:cNvPr id="1176" name="文本框 16"/>
            <p:cNvSpPr/>
            <p:nvPr/>
          </p:nvSpPr>
          <p:spPr>
            <a:xfrm>
              <a:off x="3429000" y="3492360"/>
              <a:ext cx="458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c00000"/>
                  </a:solidFill>
                  <a:latin typeface="Calibri"/>
                  <a:ea typeface="宋体"/>
                </a:rPr>
                <a:t>改正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文本框 22"/>
            <p:cNvSpPr/>
            <p:nvPr/>
          </p:nvSpPr>
          <p:spPr>
            <a:xfrm>
              <a:off x="4016160" y="3362400"/>
              <a:ext cx="2437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</a:rPr>
                <a:t>5    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c00000"/>
                  </a:solidFill>
                  <a:latin typeface="Arial"/>
                  <a:ea typeface="宋体"/>
                </a:rPr>
                <a:t>  </a:t>
              </a:r>
              <a:r>
                <a:rPr b="0" lang="zh-CN" sz="2800" spc="-1" strike="noStrike">
                  <a:solidFill>
                    <a:srgbClr val="c00000"/>
                  </a:solidFill>
                  <a:latin typeface="Arial"/>
                  <a:ea typeface="宋体"/>
                </a:rPr>
                <a:t>×          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直接连接符 23"/>
            <p:cNvSpPr/>
            <p:nvPr/>
          </p:nvSpPr>
          <p:spPr>
            <a:xfrm>
              <a:off x="4277880" y="4230720"/>
              <a:ext cx="1747800" cy="0"/>
            </a:xfrm>
            <a:prstGeom prst="line">
              <a:avLst/>
            </a:prstGeom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文本框 24"/>
            <p:cNvSpPr/>
            <p:nvPr/>
          </p:nvSpPr>
          <p:spPr>
            <a:xfrm>
              <a:off x="4277880" y="4341600"/>
              <a:ext cx="174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Arial"/>
                </a:rPr>
                <a:t>2    0     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组合 4"/>
          <p:cNvGrpSpPr/>
          <p:nvPr/>
        </p:nvGrpSpPr>
        <p:grpSpPr>
          <a:xfrm>
            <a:off x="6632640" y="3397320"/>
            <a:ext cx="3006720" cy="1644480"/>
            <a:chOff x="6632640" y="3397320"/>
            <a:chExt cx="3006720" cy="1644480"/>
          </a:xfrm>
        </p:grpSpPr>
        <p:sp>
          <p:nvSpPr>
            <p:cNvPr id="1181" name="文本框 17"/>
            <p:cNvSpPr/>
            <p:nvPr/>
          </p:nvSpPr>
          <p:spPr>
            <a:xfrm>
              <a:off x="6632640" y="3576240"/>
              <a:ext cx="460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c00000"/>
                  </a:solidFill>
                  <a:latin typeface="Calibri"/>
                  <a:ea typeface="宋体"/>
                </a:rPr>
                <a:t>改正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文本框 25"/>
            <p:cNvSpPr/>
            <p:nvPr/>
          </p:nvSpPr>
          <p:spPr>
            <a:xfrm>
              <a:off x="6918120" y="3397320"/>
              <a:ext cx="24357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   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</a:rPr>
                <a:t>2   9    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c00000"/>
                  </a:solidFill>
                  <a:latin typeface="Arial"/>
                  <a:ea typeface="宋体"/>
                </a:rPr>
                <a:t>  </a:t>
              </a:r>
              <a:r>
                <a:rPr b="0" lang="zh-CN" sz="2800" spc="-1" strike="noStrike">
                  <a:solidFill>
                    <a:srgbClr val="c00000"/>
                  </a:solidFill>
                  <a:latin typeface="Arial"/>
                  <a:ea typeface="宋体"/>
                </a:rPr>
                <a:t>×             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直接连接符 26"/>
            <p:cNvSpPr/>
            <p:nvPr/>
          </p:nvSpPr>
          <p:spPr>
            <a:xfrm>
              <a:off x="7334280" y="4437000"/>
              <a:ext cx="1747800" cy="0"/>
            </a:xfrm>
            <a:prstGeom prst="line">
              <a:avLst/>
            </a:prstGeom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文本框 27"/>
            <p:cNvSpPr/>
            <p:nvPr/>
          </p:nvSpPr>
          <p:spPr>
            <a:xfrm>
              <a:off x="7202160" y="4521240"/>
              <a:ext cx="243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Arial"/>
                </a:rPr>
                <a:t>1   4   7   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组合 6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86" name="圆角矩形 11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7" name="组合 12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88" name="椭圆 13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9" name="椭圆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0" name="椭圆 15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1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2" name="圆角矩形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3" name="圆角矩形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4" name="圆角矩形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5" name="圆角矩形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文本框 2"/>
          <p:cNvSpPr/>
          <p:nvPr/>
        </p:nvSpPr>
        <p:spPr>
          <a:xfrm>
            <a:off x="487440" y="946080"/>
            <a:ext cx="444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白马和骆驼一起运粮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7" name="组合 11"/>
          <p:cNvGrpSpPr/>
          <p:nvPr/>
        </p:nvGrpSpPr>
        <p:grpSpPr>
          <a:xfrm>
            <a:off x="669600" y="1589040"/>
            <a:ext cx="6623280" cy="1665000"/>
            <a:chOff x="669600" y="1589040"/>
            <a:chExt cx="6623280" cy="1665000"/>
          </a:xfrm>
        </p:grpSpPr>
        <p:pic>
          <p:nvPicPr>
            <p:cNvPr id="1198" name="图片 3" descr="9NJF59B0OUJ2ZTK`8H9@3R8"/>
            <p:cNvPicPr/>
            <p:nvPr/>
          </p:nvPicPr>
          <p:blipFill>
            <a:blip r:embed="rId1"/>
            <a:stretch/>
          </p:blipFill>
          <p:spPr>
            <a:xfrm flipH="1">
              <a:off x="669600" y="2025720"/>
              <a:ext cx="1269720" cy="97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图片 4" descr="T(V6LY}_1$YF`FK)}9HQV6C"/>
            <p:cNvPicPr/>
            <p:nvPr/>
          </p:nvPicPr>
          <p:blipFill>
            <a:blip r:embed="rId2"/>
            <a:stretch/>
          </p:blipFill>
          <p:spPr>
            <a:xfrm flipH="1">
              <a:off x="6105600" y="2288160"/>
              <a:ext cx="1187280" cy="96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0" name="图片 8" descr="R6PEPN8X6D$W%S4WDXFKZF2"/>
            <p:cNvPicPr/>
            <p:nvPr/>
          </p:nvPicPr>
          <p:blipFill>
            <a:blip r:embed="rId3"/>
            <a:stretch/>
          </p:blipFill>
          <p:spPr>
            <a:xfrm flipH="1" rot="16200000">
              <a:off x="4605120" y="1283400"/>
              <a:ext cx="495720" cy="24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1" name="图片 6" descr="R6PEPN8X6D$W%S4WDXFKZF2"/>
            <p:cNvPicPr/>
            <p:nvPr/>
          </p:nvPicPr>
          <p:blipFill>
            <a:blip r:embed="rId4"/>
            <a:stretch/>
          </p:blipFill>
          <p:spPr>
            <a:xfrm rot="5400000">
              <a:off x="2849400" y="590760"/>
              <a:ext cx="570600" cy="25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2" name="文本框 9"/>
            <p:cNvSpPr/>
            <p:nvPr/>
          </p:nvSpPr>
          <p:spPr>
            <a:xfrm>
              <a:off x="2338560" y="1690920"/>
              <a:ext cx="239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我一次能运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</a:rPr>
                <a:t>238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千克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文本框 10"/>
            <p:cNvSpPr/>
            <p:nvPr/>
          </p:nvSpPr>
          <p:spPr>
            <a:xfrm>
              <a:off x="3713760" y="2368800"/>
              <a:ext cx="239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我运的是你的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倍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4" name="文本框 12"/>
          <p:cNvSpPr/>
          <p:nvPr/>
        </p:nvSpPr>
        <p:spPr>
          <a:xfrm>
            <a:off x="714240" y="3449520"/>
            <a:ext cx="48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骆驼一次能运多少千克粮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Box 25"/>
          <p:cNvSpPr/>
          <p:nvPr/>
        </p:nvSpPr>
        <p:spPr>
          <a:xfrm>
            <a:off x="1349280" y="4145040"/>
            <a:ext cx="30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38×2=476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千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文本框 14"/>
          <p:cNvSpPr/>
          <p:nvPr/>
        </p:nvSpPr>
        <p:spPr>
          <a:xfrm>
            <a:off x="838080" y="4951440"/>
            <a:ext cx="46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答：骆驼一次能运</a:t>
            </a:r>
            <a:r>
              <a:rPr b="0" lang="en-US" sz="2400" spc="-1" strike="noStrike">
                <a:solidFill>
                  <a:srgbClr val="c00000"/>
                </a:solidFill>
                <a:latin typeface="宋体"/>
              </a:rPr>
              <a:t>476</a:t>
            </a:r>
            <a:r>
              <a:rPr b="0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千克粮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08" name="圆角矩形 3" descr=""/>
            <p:cNvPicPr/>
            <p:nvPr/>
          </p:nvPicPr>
          <p:blipFill>
            <a:blip r:embed="rId5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9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10" name="椭圆 6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1" name="椭圆 8" descr=""/>
              <p:cNvPicPr/>
              <p:nvPr/>
            </p:nvPicPr>
            <p:blipFill>
              <a:blip r:embed="rId6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2" name="椭圆 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3" name="椭圆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4" name="圆角矩形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5" name="圆角矩形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6" name="圆角矩形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7" name="圆角矩形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图片 4" descr="R6PEPN8X6D$W%S4WDXFKZF2"/>
          <p:cNvPicPr/>
          <p:nvPr/>
        </p:nvPicPr>
        <p:blipFill>
          <a:blip r:embed="rId1"/>
          <a:stretch/>
        </p:blipFill>
        <p:spPr>
          <a:xfrm flipH="1" rot="16200000">
            <a:off x="1510560" y="-431280"/>
            <a:ext cx="949320" cy="3244680"/>
          </a:xfrm>
          <a:prstGeom prst="rect">
            <a:avLst/>
          </a:prstGeom>
          <a:ln w="0">
            <a:noFill/>
          </a:ln>
        </p:spPr>
      </p:pic>
      <p:grpSp>
        <p:nvGrpSpPr>
          <p:cNvPr id="1219" name="组合 11"/>
          <p:cNvGrpSpPr/>
          <p:nvPr/>
        </p:nvGrpSpPr>
        <p:grpSpPr>
          <a:xfrm>
            <a:off x="573120" y="841320"/>
            <a:ext cx="8100720" cy="1328760"/>
            <a:chOff x="573120" y="841320"/>
            <a:chExt cx="8100720" cy="1328760"/>
          </a:xfrm>
        </p:grpSpPr>
        <p:pic>
          <p:nvPicPr>
            <p:cNvPr id="1220" name="图片 2" descr="BK4]SQ92A(FZ)5}CAUM_75R"/>
            <p:cNvPicPr/>
            <p:nvPr/>
          </p:nvPicPr>
          <p:blipFill>
            <a:blip r:embed="rId2"/>
            <a:stretch/>
          </p:blipFill>
          <p:spPr>
            <a:xfrm flipH="1">
              <a:off x="3263400" y="1148040"/>
              <a:ext cx="2057040" cy="9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1" name="图片 8" descr="R6PEPN8X6D$W%S4WDXFKZF2"/>
            <p:cNvPicPr/>
            <p:nvPr/>
          </p:nvPicPr>
          <p:blipFill>
            <a:blip r:embed="rId3"/>
            <a:stretch/>
          </p:blipFill>
          <p:spPr>
            <a:xfrm flipH="1" rot="5400000">
              <a:off x="6804000" y="300240"/>
              <a:ext cx="542880" cy="319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2" name="图片 3" descr="R6PEPN8X6D$W%S4WDXFKZF2"/>
            <p:cNvPicPr/>
            <p:nvPr/>
          </p:nvPicPr>
          <p:blipFill>
            <a:blip r:embed="rId4"/>
            <a:stretch/>
          </p:blipFill>
          <p:spPr>
            <a:xfrm rot="5400000">
              <a:off x="6491880" y="-508680"/>
              <a:ext cx="495720" cy="31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3" name="文本框 6"/>
            <p:cNvSpPr/>
            <p:nvPr/>
          </p:nvSpPr>
          <p:spPr>
            <a:xfrm>
              <a:off x="573120" y="890640"/>
              <a:ext cx="253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这列火车有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节卧铺车厢和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节硬座车厢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文本框 9"/>
            <p:cNvSpPr/>
            <p:nvPr/>
          </p:nvSpPr>
          <p:spPr>
            <a:xfrm>
              <a:off x="5810400" y="922320"/>
              <a:ext cx="253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卧铺车厢每节可乘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</a:rPr>
                <a:t>72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人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文本框 10"/>
            <p:cNvSpPr/>
            <p:nvPr/>
          </p:nvSpPr>
          <p:spPr>
            <a:xfrm>
              <a:off x="6143040" y="1730880"/>
              <a:ext cx="253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硬座车厢每节可乘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</a:rPr>
                <a:t>128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人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文本框 12"/>
          <p:cNvSpPr/>
          <p:nvPr/>
        </p:nvSpPr>
        <p:spPr>
          <a:xfrm>
            <a:off x="573120" y="2906640"/>
            <a:ext cx="66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这列火车一共可乘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文本框 13"/>
          <p:cNvSpPr/>
          <p:nvPr/>
        </p:nvSpPr>
        <p:spPr>
          <a:xfrm>
            <a:off x="34920" y="920880"/>
            <a:ext cx="47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Box 25"/>
          <p:cNvSpPr/>
          <p:nvPr/>
        </p:nvSpPr>
        <p:spPr>
          <a:xfrm>
            <a:off x="3672000" y="3600360"/>
            <a:ext cx="30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8×5=640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Box 25"/>
          <p:cNvSpPr/>
          <p:nvPr/>
        </p:nvSpPr>
        <p:spPr>
          <a:xfrm>
            <a:off x="923760" y="3600360"/>
            <a:ext cx="30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2×5=360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Box 25"/>
          <p:cNvSpPr/>
          <p:nvPr/>
        </p:nvSpPr>
        <p:spPr>
          <a:xfrm>
            <a:off x="1019160" y="4232160"/>
            <a:ext cx="30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60+640=1000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文本框 17"/>
          <p:cNvSpPr/>
          <p:nvPr/>
        </p:nvSpPr>
        <p:spPr>
          <a:xfrm>
            <a:off x="923760" y="4917960"/>
            <a:ext cx="43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这列火车一共可乘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000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33" name="圆角矩形 3" descr=""/>
            <p:cNvPicPr/>
            <p:nvPr/>
          </p:nvPicPr>
          <p:blipFill>
            <a:blip r:embed="rId5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4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35" name="椭圆 6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6" name="椭圆 8" descr=""/>
              <p:cNvPicPr/>
              <p:nvPr/>
            </p:nvPicPr>
            <p:blipFill>
              <a:blip r:embed="rId6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7" name="椭圆 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8" name="椭圆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9" name="圆角矩形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0" name="圆角矩形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1" name="圆角矩形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2" name="圆角矩形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6T11:02:33Z</dcterms:created>
  <dc:creator/>
  <dc:description/>
  <dc:language>en-US</dc:language>
  <cp:lastModifiedBy>万润仪器贸易公司</cp:lastModifiedBy>
  <dcterms:modified xsi:type="dcterms:W3CDTF">2020-08-21T01:25:00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